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353-9644-44EE-99AB-9A0438DD5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B9C8-4DCE-4F64-88F1-7935CA774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761-132C-4C51-BC82-D53225390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CC42-DE74-4237-85B1-B42EAE1E6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41E5-B971-49DF-9075-549FDE6A2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DCF6-7851-4D9A-A405-AFB164E93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9701-38EA-4547-9E7E-872DA77FA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F3C3-7719-4760-9BAB-211CF62CA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F192-C7B5-447C-B185-002D9BD7A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3C35-23BD-449A-B201-06D0B0CED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58B0-718E-462A-933B-390376ADD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0971-3AD7-444A-B76D-5C1F82800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3161-D7AD-4B5F-8562-221644DFC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713-2FE4-4BBD-90EC-C86DC0BD9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765-939E-461E-89B5-39BA99875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B5AC-CC74-4C94-8D5B-593B2BFE6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DD94-5E72-484F-A1FD-1E177637D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0EB-75F0-4603-93B0-76A0842F4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6F31-0DB6-404D-8CC0-1A4753EA3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7925-9CA2-4E65-829E-9C989450C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2165-B98E-4A85-AAF3-F4BE04BB5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E3C6-DF4B-46E9-8091-456D79415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FF3-9DFA-486C-9ABD-350F96DD2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A3FD-0EA5-4FA8-8F6E-F9FABC2D9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FE2-3579-4651-8843-2FD1FFFF4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F7E-F1F5-4064-8D52-05FCC1D5E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FCF3-10D0-4D4A-9649-1DBFCCFB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9E94-DF32-4087-88E7-CC3C57EF5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E19D-7110-40E5-A593-0F995E77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E764-D0DD-4FAC-B5C3-9160C8679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111-8FF9-41EF-84C9-9C247F93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EEF-20CB-4458-8C03-808D250B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5D9-F2F1-45B4-99B4-E9AB07AA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25F-1774-46C4-AE6D-B78BCCE2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D04-BC4D-4FF6-B82E-A275E2C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FD2-3BD6-4C45-A471-2A993892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7CE-2067-48CC-A2AB-F892184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EDA6-7993-4B13-B37D-83502C9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C77-54BB-4A56-BD9A-C8C78A3A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26F-5787-4FF8-82D8-9B1CBB72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D0E-86A4-4E47-93D1-5F021B9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6E52-A510-4368-B708-A7E1B814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F46E-A50A-4DF5-8F24-0768143BFC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 Şüphelilerin Tespi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turum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r eposta mesajının kaydedilmesi ve iletilmesiyle ilgili kayıtlar o mesajın içinde yer alı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, bir kişiden diğerine doğrudan gönderilmez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nun yerine "sakla ve ilet" adı verilen bir yöntem kullanılı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kişinin bir gelen posta bir de giden posta sunucusu vardır ve eposta gönderimi bir sonraki slaytta gösterildiği şekilde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İ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u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2362320" y="4343400"/>
            <a:ext cx="198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 GÖNDER tuşuna bastığında epostası bilgisayarından alınıp İnternet Servis Sağlayıcısının giden posta sunucusuna taşını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17928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lice'in İSS'si epostayı internete gönder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posta, Bob'un İSS'sinin gelen posta (POP3) sunucusuna ilet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86400" y="457200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ob İSS’sine bağlandığında, eposta bilgisayarına indiril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028-27B5-4785-BFDE-3BA41F3E1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Eposta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osta iki bölümden oluş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şlık: Mesajın kimden kime gönderildiği, konusu, tarihi gibi bilgilerin yanı sıra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..nasıl saklandığını/iletildiğini de içerir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övde: Eposta mesajının içeriğ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ıradaki slaytta, başlıklarıyla birlikte bir örnek eposta gösterilmiş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Jan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ME-Version: 1,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okuluslu Hizmet Sağlayıcı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book, Google gibi çokuluslu hizmet sağlayıcılar, size bir IP adresinin belirli bir zamanda hangi IP adresi tarafından kullanıldığını bu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nin kimliği (örneğin Facebook profili) gerekl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uslararası işbirliği gerekli ol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zli Soruşturma Yöntem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yi tespit etmişseniz, kullandığı IP adreslerini tespit etmek için teknik takip gibi gizli soruşturma yöntemleri kullanı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nin Gerçek Kimlikle Eşleştirilmes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öste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resim nedi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yle elde edebileceğiniz bilgil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İnternet Servis Sağlayıc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ğrafi konumlandı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urum Hedef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zeleme: IP adresinin ne olduğunu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nin nasıl bulunacağını tarif e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Şüpheli IP adresi ile bir gerçek kişinin nasıl ilişkilendirileceğini anlat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te şüphelilerin tespitinin önündeki üç teknik engeli açıklayı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nternet Servis Sağlayıcılar, bir IP adresini belli bir zamanda hangi abonenin kullandığının kayıtlarını tu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ın ne süreyle saklanacağı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a nasıl erişileceği de ülke yasalarına bağlı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SS Kayıtları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SS abone verisine erişim sağlamak için ne gereki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gi İSS'den bilgi isteyeceğinizi nereden bileceksiniz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ğrafi konumlandırma: Soru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ğrafi konum verileri sizce nereden elde ediliy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üvenilirliği asla garanti edilemez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amaz mı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 zaman belli bir kişiyi teşhis de etmez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k ve Dinamik IP Adresleri var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ğ Adresi Çevirme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pılan hareketin saati çok önemlidi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uruml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ğ Adresi Çevirme (NAT) kullanan kurumlar, şüphelilerin hareketlerini belirli bir dahili IP adresiyle eşleştirecek kayıtlara sahip olabilir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rumla bağlantının nasıl kurulacağı ülke yasalarına göre değiş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nadiren el altında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lgisayarı bulabilseniz bil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m kullanıyord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zaktan kumanda ediliyor olabilir miy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Fi erişim noktası hangis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PN kullanılmış mı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İĞER Teknik Güçlük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üçlük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yıtlar kasıtlı ya da kasıtsız, meşru ya da gayrimeşru şekilde tahrif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örnekleri tartışılacakt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imleştirme Hizm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Çevrimiçi faaliyetleri gizlemek için ücretli ve ücretsiz hizmet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kil sunucuların anonimleştirilmesi, web'de gezinme hareketler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posta sağlayıcılarının anonimleştirilmesi, epostanın göndericisini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vekil sunucularının anonimleştirilmesi ise tüm internet trafiğinin kaynağını gizl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Örnek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, 0 ile 255 arasındaki dört sayının noktalarla ayrılması sonucunda oluş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Örneğ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resinin yeni bir türü olan sürüm 6 ise bu derste işlenmeyecekt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Şifrel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İletişimin şifrelenmiş olması mümkündü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jın bütün içeriği de şifrelenmiş ol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şıyıcı Sınıfı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ok sayıda kullanıcının tek bir IP adresi kullanmasının yöntem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llikle mobil telefon şebekelerinin internet bağlantılarında kullanıl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Ö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, çevrimiçi hareketlerden kimlik tespiti yapmanın gerekli fakat yeterli olmayan bir unsuru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resi ile bir gerçek kişinin ilişkilendirilmesi çok zord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işinin çevrimiçi takibinin yapılmasını daha da zorlaştıran teknolojiler mevcuttu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ümkünse, IP adresi delillerini desteklemek için başka kaynaklardan deliller de kullanılmalıdı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488400" y="4500720"/>
            <a:ext cx="21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resi (sürüm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zı IP adresleri internette kullanılmaz, sadece özel (dahili) kullanım için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Şüpheli IP Adresinin Tespi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İnternetteki Hareket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şinin çevrimiçi hareketleri bazı kayıtlar oluştura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kayıtlardan kullanıcının iletişimde kullandığı IP adresi elde edilebil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 da şüphelinin tespiti açısından önemli bir bilgid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reklidir ama yeterli değildir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ullanıcı web'de gezinirken bir web sunucusuna talepler gönderir, sunucu da kullanıcıya yanıtlar y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aleplerin ve yanıtların formatı, Hiper Metin Aktarım Protokolü (HTTP) adı verilen bir protokolle belirleni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nucu, gelen tüm taleplerin kayıtlarını tutar ve talebin gönderildiği IP adresini de kayded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640"/>
            <a:ext cx="8229600" cy="459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ka Çalışması Web'de Gezinme Hareketl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Sıla Okur</cp:lastModifiedBy>
  <cp:lastPrinted>2016-05-18T07:38:13Z</cp:lastPrinted>
  <dcterms:modified xsi:type="dcterms:W3CDTF">2017-11-09T23:35:10Z</dcterms:modified>
  <cp:revision>286</cp:revision>
  <dc:subject/>
  <dc:title>PowerPoint Presentation</dc:title>
</cp:coreProperties>
</file>